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23814088" cy="12495213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367000" y="857160"/>
            <a:ext cx="4410000" cy="2314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665360"/>
                <a:tab algn="l" pos="3330720"/>
                <a:tab algn="l" pos="4995720"/>
                <a:tab algn="l" pos="6661080"/>
                <a:tab algn="l" pos="8326440"/>
                <a:tab algn="l" pos="99918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8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300120"/>
            <a:ext cx="73152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1741320"/>
                <a:tab algn="l" pos="3483000"/>
                <a:tab algn="l" pos="5224320"/>
                <a:tab algn="l" pos="6966000"/>
                <a:tab algn="l" pos="8707320"/>
                <a:tab algn="l" pos="10449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004641-EF17-484B-9363-C6B0C444D84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2367000" y="857160"/>
            <a:ext cx="4410000" cy="23148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3300120"/>
            <a:ext cx="7315200" cy="27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1741320"/>
                <a:tab algn="l" pos="3483000"/>
                <a:tab algn="l" pos="5224320"/>
                <a:tab algn="l" pos="6966000"/>
                <a:tab algn="l" pos="8707320"/>
                <a:tab algn="l" pos="10449000"/>
              </a:tabLst>
            </a:pPr>
            <a:endParaRPr b="0" lang="fr-FR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Espace réservé du numéro de diapositive 3"/>
          <p:cNvSpPr/>
          <p:nvPr/>
        </p:nvSpPr>
        <p:spPr>
          <a:xfrm>
            <a:off x="5180040" y="6513480"/>
            <a:ext cx="3962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718124-585D-4FE5-9A14-A0BAB671F1F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2729-551A-45F7-A1E0-32A12E6F2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36200" y="664920"/>
            <a:ext cx="20539080" cy="24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665360"/>
                <a:tab algn="l" pos="3330720"/>
                <a:tab algn="l" pos="4995720"/>
                <a:tab algn="l" pos="6661080"/>
                <a:tab algn="l" pos="8326440"/>
                <a:tab algn="l" pos="9991800"/>
              </a:tabLst>
            </a:pPr>
            <a:endParaRPr b="0" lang="en-US" sz="8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36200" y="3327480"/>
            <a:ext cx="2053908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26"/>
              </a:spcBef>
              <a:buNone/>
              <a:tabLst>
                <a:tab algn="l" pos="1665360"/>
                <a:tab algn="l" pos="3330720"/>
                <a:tab algn="l" pos="4995720"/>
                <a:tab algn="l" pos="6661080"/>
                <a:tab algn="l" pos="8326440"/>
                <a:tab algn="l" pos="99918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36200" y="7468560"/>
            <a:ext cx="2053908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26"/>
              </a:spcBef>
              <a:buNone/>
              <a:tabLst>
                <a:tab algn="l" pos="1665360"/>
                <a:tab algn="l" pos="3330720"/>
                <a:tab algn="l" pos="4995720"/>
                <a:tab algn="l" pos="6661080"/>
                <a:tab algn="l" pos="8326440"/>
                <a:tab algn="l" pos="99918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12F8-8D1F-458F-8362-B9F79CAD3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36200" y="664920"/>
            <a:ext cx="20539080" cy="24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665360"/>
                <a:tab algn="l" pos="3330720"/>
                <a:tab algn="l" pos="4995720"/>
                <a:tab algn="l" pos="6661080"/>
                <a:tab algn="l" pos="8326440"/>
                <a:tab algn="l" pos="9991800"/>
              </a:tabLst>
            </a:pPr>
            <a:endParaRPr b="0" lang="en-US" sz="8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36200" y="3327480"/>
            <a:ext cx="1002276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26"/>
              </a:spcBef>
              <a:buNone/>
              <a:tabLst>
                <a:tab algn="l" pos="1665360"/>
                <a:tab algn="l" pos="3330720"/>
                <a:tab algn="l" pos="4995720"/>
                <a:tab algn="l" pos="6661080"/>
                <a:tab algn="l" pos="8326440"/>
                <a:tab algn="l" pos="99918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160440" y="3327480"/>
            <a:ext cx="1002276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26"/>
              </a:spcBef>
              <a:buNone/>
              <a:tabLst>
                <a:tab algn="l" pos="1665360"/>
                <a:tab algn="l" pos="3330720"/>
                <a:tab algn="l" pos="4995720"/>
                <a:tab algn="l" pos="6661080"/>
                <a:tab algn="l" pos="8326440"/>
                <a:tab algn="l" pos="99918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36200" y="7468560"/>
            <a:ext cx="1002276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26"/>
              </a:spcBef>
              <a:buNone/>
              <a:tabLst>
                <a:tab algn="l" pos="1665360"/>
                <a:tab algn="l" pos="3330720"/>
                <a:tab algn="l" pos="4995720"/>
                <a:tab algn="l" pos="6661080"/>
                <a:tab algn="l" pos="8326440"/>
                <a:tab algn="l" pos="99918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2160440" y="7468560"/>
            <a:ext cx="1002276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26"/>
              </a:spcBef>
              <a:buNone/>
              <a:tabLst>
                <a:tab algn="l" pos="1665360"/>
                <a:tab algn="l" pos="3330720"/>
                <a:tab algn="l" pos="4995720"/>
                <a:tab algn="l" pos="6661080"/>
                <a:tab algn="l" pos="8326440"/>
                <a:tab algn="l" pos="99918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E539-8C40-4BAB-8371-02CA868E8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36200" y="664920"/>
            <a:ext cx="20539080" cy="24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665360"/>
                <a:tab algn="l" pos="3330720"/>
                <a:tab algn="l" pos="4995720"/>
                <a:tab algn="l" pos="6661080"/>
                <a:tab algn="l" pos="8326440"/>
                <a:tab algn="l" pos="9991800"/>
              </a:tabLst>
            </a:pPr>
            <a:endParaRPr b="0" lang="en-US" sz="8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36200" y="3327480"/>
            <a:ext cx="661320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26"/>
              </a:spcBef>
              <a:buNone/>
              <a:tabLst>
                <a:tab algn="l" pos="1665360"/>
                <a:tab algn="l" pos="3330720"/>
                <a:tab algn="l" pos="4995720"/>
                <a:tab algn="l" pos="6661080"/>
                <a:tab algn="l" pos="8326440"/>
                <a:tab algn="l" pos="99918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580600" y="3327480"/>
            <a:ext cx="661320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26"/>
              </a:spcBef>
              <a:buNone/>
              <a:tabLst>
                <a:tab algn="l" pos="1665360"/>
                <a:tab algn="l" pos="3330720"/>
                <a:tab algn="l" pos="4995720"/>
                <a:tab algn="l" pos="6661080"/>
                <a:tab algn="l" pos="8326440"/>
                <a:tab algn="l" pos="99918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5524640" y="3327480"/>
            <a:ext cx="661320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26"/>
              </a:spcBef>
              <a:buNone/>
              <a:tabLst>
                <a:tab algn="l" pos="1665360"/>
                <a:tab algn="l" pos="3330720"/>
                <a:tab algn="l" pos="4995720"/>
                <a:tab algn="l" pos="6661080"/>
                <a:tab algn="l" pos="8326440"/>
                <a:tab algn="l" pos="99918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36200" y="7468560"/>
            <a:ext cx="661320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26"/>
              </a:spcBef>
              <a:buNone/>
              <a:tabLst>
                <a:tab algn="l" pos="1665360"/>
                <a:tab algn="l" pos="3330720"/>
                <a:tab algn="l" pos="4995720"/>
                <a:tab algn="l" pos="6661080"/>
                <a:tab algn="l" pos="8326440"/>
                <a:tab algn="l" pos="99918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8580600" y="7468560"/>
            <a:ext cx="661320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26"/>
              </a:spcBef>
              <a:buNone/>
              <a:tabLst>
                <a:tab algn="l" pos="1665360"/>
                <a:tab algn="l" pos="3330720"/>
                <a:tab algn="l" pos="4995720"/>
                <a:tab algn="l" pos="6661080"/>
                <a:tab algn="l" pos="8326440"/>
                <a:tab algn="l" pos="99918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5524640" y="7468560"/>
            <a:ext cx="661320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26"/>
              </a:spcBef>
              <a:buNone/>
              <a:tabLst>
                <a:tab algn="l" pos="1665360"/>
                <a:tab algn="l" pos="3330720"/>
                <a:tab algn="l" pos="4995720"/>
                <a:tab algn="l" pos="6661080"/>
                <a:tab algn="l" pos="8326440"/>
                <a:tab algn="l" pos="99918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3639-BC3B-4F07-9FFF-B815D1D74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36200" y="664920"/>
            <a:ext cx="20539080" cy="24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665360"/>
                <a:tab algn="l" pos="3330720"/>
                <a:tab algn="l" pos="4995720"/>
                <a:tab algn="l" pos="6661080"/>
                <a:tab algn="l" pos="8326440"/>
                <a:tab algn="l" pos="9991800"/>
              </a:tabLst>
            </a:pPr>
            <a:endParaRPr b="0" lang="en-US" sz="8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36200" y="3327480"/>
            <a:ext cx="20539080" cy="792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26"/>
              </a:spcBef>
              <a:buNone/>
              <a:tabLst>
                <a:tab algn="l" pos="0"/>
                <a:tab algn="l" pos="1665360"/>
                <a:tab algn="l" pos="3330720"/>
                <a:tab algn="l" pos="4995720"/>
                <a:tab algn="l" pos="6661080"/>
                <a:tab algn="l" pos="8326440"/>
                <a:tab algn="l" pos="99918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1782-5899-4F71-ACB7-5C48B063A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36200" y="664920"/>
            <a:ext cx="20539080" cy="24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665360"/>
                <a:tab algn="l" pos="3330720"/>
                <a:tab algn="l" pos="4995720"/>
                <a:tab algn="l" pos="6661080"/>
                <a:tab algn="l" pos="8326440"/>
                <a:tab algn="l" pos="9991800"/>
              </a:tabLst>
            </a:pPr>
            <a:endParaRPr b="0" lang="en-US" sz="8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36200" y="3327480"/>
            <a:ext cx="20539080" cy="792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26"/>
              </a:spcBef>
              <a:buNone/>
              <a:tabLst>
                <a:tab algn="l" pos="1665360"/>
                <a:tab algn="l" pos="3330720"/>
                <a:tab algn="l" pos="4995720"/>
                <a:tab algn="l" pos="6661080"/>
                <a:tab algn="l" pos="8326440"/>
                <a:tab algn="l" pos="99918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5E13-02D9-4AD8-9957-D776ED736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36200" y="664920"/>
            <a:ext cx="20539080" cy="24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665360"/>
                <a:tab algn="l" pos="3330720"/>
                <a:tab algn="l" pos="4995720"/>
                <a:tab algn="l" pos="6661080"/>
                <a:tab algn="l" pos="8326440"/>
                <a:tab algn="l" pos="9991800"/>
              </a:tabLst>
            </a:pPr>
            <a:endParaRPr b="0" lang="en-US" sz="8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36200" y="3327480"/>
            <a:ext cx="10022760" cy="792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26"/>
              </a:spcBef>
              <a:buNone/>
              <a:tabLst>
                <a:tab algn="l" pos="1665360"/>
                <a:tab algn="l" pos="3330720"/>
                <a:tab algn="l" pos="4995720"/>
                <a:tab algn="l" pos="6661080"/>
                <a:tab algn="l" pos="8326440"/>
                <a:tab algn="l" pos="99918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2160440" y="3327480"/>
            <a:ext cx="10022760" cy="792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26"/>
              </a:spcBef>
              <a:buNone/>
              <a:tabLst>
                <a:tab algn="l" pos="1665360"/>
                <a:tab algn="l" pos="3330720"/>
                <a:tab algn="l" pos="4995720"/>
                <a:tab algn="l" pos="6661080"/>
                <a:tab algn="l" pos="8326440"/>
                <a:tab algn="l" pos="99918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3473-2379-4A76-9D42-D21E41C35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36200" y="664920"/>
            <a:ext cx="20539080" cy="24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665360"/>
                <a:tab algn="l" pos="3330720"/>
                <a:tab algn="l" pos="4995720"/>
                <a:tab algn="l" pos="6661080"/>
                <a:tab algn="l" pos="8326440"/>
                <a:tab algn="l" pos="9991800"/>
              </a:tabLst>
            </a:pPr>
            <a:endParaRPr b="0" lang="en-US" sz="8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20AD-C1C2-44AC-98A5-7C0C382B3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36200" y="664920"/>
            <a:ext cx="20539080" cy="112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26"/>
              </a:spcBef>
              <a:tabLst>
                <a:tab algn="l" pos="0"/>
                <a:tab algn="l" pos="1665360"/>
                <a:tab algn="l" pos="3330720"/>
                <a:tab algn="l" pos="4995720"/>
                <a:tab algn="l" pos="6661080"/>
                <a:tab algn="l" pos="8326440"/>
                <a:tab algn="l" pos="99918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46FB-C3BF-4519-991A-56E003F61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36200" y="664920"/>
            <a:ext cx="20539080" cy="24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665360"/>
                <a:tab algn="l" pos="3330720"/>
                <a:tab algn="l" pos="4995720"/>
                <a:tab algn="l" pos="6661080"/>
                <a:tab algn="l" pos="8326440"/>
                <a:tab algn="l" pos="9991800"/>
              </a:tabLst>
            </a:pPr>
            <a:endParaRPr b="0" lang="en-US" sz="8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36200" y="3327480"/>
            <a:ext cx="1002276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26"/>
              </a:spcBef>
              <a:buNone/>
              <a:tabLst>
                <a:tab algn="l" pos="1665360"/>
                <a:tab algn="l" pos="3330720"/>
                <a:tab algn="l" pos="4995720"/>
                <a:tab algn="l" pos="6661080"/>
                <a:tab algn="l" pos="8326440"/>
                <a:tab algn="l" pos="99918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2160440" y="3327480"/>
            <a:ext cx="10022760" cy="792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26"/>
              </a:spcBef>
              <a:buNone/>
              <a:tabLst>
                <a:tab algn="l" pos="1665360"/>
                <a:tab algn="l" pos="3330720"/>
                <a:tab algn="l" pos="4995720"/>
                <a:tab algn="l" pos="6661080"/>
                <a:tab algn="l" pos="8326440"/>
                <a:tab algn="l" pos="99918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36200" y="7468560"/>
            <a:ext cx="1002276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26"/>
              </a:spcBef>
              <a:buNone/>
              <a:tabLst>
                <a:tab algn="l" pos="1665360"/>
                <a:tab algn="l" pos="3330720"/>
                <a:tab algn="l" pos="4995720"/>
                <a:tab algn="l" pos="6661080"/>
                <a:tab algn="l" pos="8326440"/>
                <a:tab algn="l" pos="99918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ADC6-49E8-4B2C-8B1E-2127B8CFC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36200" y="664920"/>
            <a:ext cx="20539080" cy="24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665360"/>
                <a:tab algn="l" pos="3330720"/>
                <a:tab algn="l" pos="4995720"/>
                <a:tab algn="l" pos="6661080"/>
                <a:tab algn="l" pos="8326440"/>
                <a:tab algn="l" pos="9991800"/>
              </a:tabLst>
            </a:pPr>
            <a:endParaRPr b="0" lang="en-US" sz="8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36200" y="3327480"/>
            <a:ext cx="10022760" cy="792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26"/>
              </a:spcBef>
              <a:buNone/>
              <a:tabLst>
                <a:tab algn="l" pos="1665360"/>
                <a:tab algn="l" pos="3330720"/>
                <a:tab algn="l" pos="4995720"/>
                <a:tab algn="l" pos="6661080"/>
                <a:tab algn="l" pos="8326440"/>
                <a:tab algn="l" pos="99918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2160440" y="3327480"/>
            <a:ext cx="1002276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26"/>
              </a:spcBef>
              <a:buNone/>
              <a:tabLst>
                <a:tab algn="l" pos="1665360"/>
                <a:tab algn="l" pos="3330720"/>
                <a:tab algn="l" pos="4995720"/>
                <a:tab algn="l" pos="6661080"/>
                <a:tab algn="l" pos="8326440"/>
                <a:tab algn="l" pos="99918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60440" y="7468560"/>
            <a:ext cx="1002276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26"/>
              </a:spcBef>
              <a:buNone/>
              <a:tabLst>
                <a:tab algn="l" pos="1665360"/>
                <a:tab algn="l" pos="3330720"/>
                <a:tab algn="l" pos="4995720"/>
                <a:tab algn="l" pos="6661080"/>
                <a:tab algn="l" pos="8326440"/>
                <a:tab algn="l" pos="99918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B098-8CDE-4619-9B12-B4AE4CE45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36200" y="664920"/>
            <a:ext cx="20539080" cy="24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665360"/>
                <a:tab algn="l" pos="3330720"/>
                <a:tab algn="l" pos="4995720"/>
                <a:tab algn="l" pos="6661080"/>
                <a:tab algn="l" pos="8326440"/>
                <a:tab algn="l" pos="9991800"/>
              </a:tabLst>
            </a:pPr>
            <a:endParaRPr b="0" lang="en-US" sz="8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36200" y="3327480"/>
            <a:ext cx="1002276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26"/>
              </a:spcBef>
              <a:buNone/>
              <a:tabLst>
                <a:tab algn="l" pos="1665360"/>
                <a:tab algn="l" pos="3330720"/>
                <a:tab algn="l" pos="4995720"/>
                <a:tab algn="l" pos="6661080"/>
                <a:tab algn="l" pos="8326440"/>
                <a:tab algn="l" pos="99918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2160440" y="3327480"/>
            <a:ext cx="1002276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26"/>
              </a:spcBef>
              <a:buNone/>
              <a:tabLst>
                <a:tab algn="l" pos="1665360"/>
                <a:tab algn="l" pos="3330720"/>
                <a:tab algn="l" pos="4995720"/>
                <a:tab algn="l" pos="6661080"/>
                <a:tab algn="l" pos="8326440"/>
                <a:tab algn="l" pos="99918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36200" y="7468560"/>
            <a:ext cx="2053908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26"/>
              </a:spcBef>
              <a:buNone/>
              <a:tabLst>
                <a:tab algn="l" pos="1665360"/>
                <a:tab algn="l" pos="3330720"/>
                <a:tab algn="l" pos="4995720"/>
                <a:tab algn="l" pos="6661080"/>
                <a:tab algn="l" pos="8326440"/>
                <a:tab algn="l" pos="99918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F606-7252-47B7-B0A9-FD2A506D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36200" y="664920"/>
            <a:ext cx="20539080" cy="24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665360"/>
                <a:tab algn="l" pos="3330720"/>
                <a:tab algn="l" pos="4995720"/>
                <a:tab algn="l" pos="6661080"/>
                <a:tab algn="l" pos="8326440"/>
                <a:tab algn="l" pos="99918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36200" y="3327480"/>
            <a:ext cx="20539080" cy="792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5800" indent="-415800">
              <a:lnSpc>
                <a:spcPct val="90000"/>
              </a:lnSpc>
              <a:spcBef>
                <a:spcPts val="1826"/>
              </a:spcBef>
              <a:buClr>
                <a:srgbClr val="000000"/>
              </a:buClr>
              <a:buFont typeface="Arial"/>
              <a:buChar char="•"/>
              <a:tabLst>
                <a:tab algn="l" pos="1665360"/>
                <a:tab algn="l" pos="3330720"/>
                <a:tab algn="l" pos="4995720"/>
                <a:tab algn="l" pos="6661080"/>
                <a:tab algn="l" pos="8326440"/>
                <a:tab algn="l" pos="99918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  <a:p>
            <a:pPr lvl="1" marL="1249200" indent="-415800">
              <a:lnSpc>
                <a:spcPct val="90000"/>
              </a:lnSpc>
              <a:spcBef>
                <a:spcPts val="1826"/>
              </a:spcBef>
              <a:buClr>
                <a:srgbClr val="000000"/>
              </a:buClr>
              <a:buFont typeface="Arial"/>
              <a:buChar char="•"/>
              <a:tabLst>
                <a:tab algn="l" pos="1665360"/>
                <a:tab algn="l" pos="3330720"/>
                <a:tab algn="l" pos="4995720"/>
                <a:tab algn="l" pos="6661080"/>
                <a:tab algn="l" pos="8326440"/>
                <a:tab algn="l" pos="99918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  <a:p>
            <a:pPr lvl="2" marL="2081160" indent="-415800">
              <a:lnSpc>
                <a:spcPct val="90000"/>
              </a:lnSpc>
              <a:spcBef>
                <a:spcPts val="1826"/>
              </a:spcBef>
              <a:buClr>
                <a:srgbClr val="000000"/>
              </a:buClr>
              <a:buFont typeface="Arial"/>
              <a:buChar char="•"/>
              <a:tabLst>
                <a:tab algn="l" pos="1665360"/>
                <a:tab algn="l" pos="3330720"/>
                <a:tab algn="l" pos="4995720"/>
                <a:tab algn="l" pos="6661080"/>
                <a:tab algn="l" pos="8326440"/>
                <a:tab algn="l" pos="99918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  <a:p>
            <a:pPr lvl="3" marL="2914560" indent="-415800">
              <a:lnSpc>
                <a:spcPct val="90000"/>
              </a:lnSpc>
              <a:spcBef>
                <a:spcPts val="1826"/>
              </a:spcBef>
              <a:buClr>
                <a:srgbClr val="000000"/>
              </a:buClr>
              <a:buFont typeface="Arial"/>
              <a:buChar char="•"/>
              <a:tabLst>
                <a:tab algn="l" pos="1665360"/>
                <a:tab algn="l" pos="3330720"/>
                <a:tab algn="l" pos="4995720"/>
                <a:tab algn="l" pos="6661080"/>
                <a:tab algn="l" pos="8326440"/>
                <a:tab algn="l" pos="99918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  <a:p>
            <a:pPr lvl="4" marL="3747960" indent="-415800">
              <a:lnSpc>
                <a:spcPct val="90000"/>
              </a:lnSpc>
              <a:spcBef>
                <a:spcPts val="1826"/>
              </a:spcBef>
              <a:buClr>
                <a:srgbClr val="000000"/>
              </a:buClr>
              <a:buFont typeface="Arial"/>
              <a:buChar char="•"/>
              <a:tabLst>
                <a:tab algn="l" pos="1665360"/>
                <a:tab algn="l" pos="3330720"/>
                <a:tab algn="l" pos="4995720"/>
                <a:tab algn="l" pos="6661080"/>
                <a:tab algn="l" pos="8326440"/>
                <a:tab algn="l" pos="99918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  <a:p>
            <a:pPr lvl="5" marL="3747960" indent="-415800">
              <a:lnSpc>
                <a:spcPct val="90000"/>
              </a:lnSpc>
              <a:spcBef>
                <a:spcPts val="1826"/>
              </a:spcBef>
              <a:buClr>
                <a:srgbClr val="000000"/>
              </a:buClr>
              <a:buFont typeface="Arial"/>
              <a:buChar char="•"/>
              <a:tabLst>
                <a:tab algn="l" pos="1665360"/>
                <a:tab algn="l" pos="3330720"/>
                <a:tab algn="l" pos="4995720"/>
                <a:tab algn="l" pos="6661080"/>
                <a:tab algn="l" pos="8326440"/>
                <a:tab algn="l" pos="99918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  <a:p>
            <a:pPr lvl="6" marL="3747960" indent="-415800">
              <a:lnSpc>
                <a:spcPct val="90000"/>
              </a:lnSpc>
              <a:spcBef>
                <a:spcPts val="1826"/>
              </a:spcBef>
              <a:buClr>
                <a:srgbClr val="000000"/>
              </a:buClr>
              <a:buFont typeface="Arial"/>
              <a:buChar char="•"/>
              <a:tabLst>
                <a:tab algn="l" pos="1665360"/>
                <a:tab algn="l" pos="3330720"/>
                <a:tab algn="l" pos="4995720"/>
                <a:tab algn="l" pos="6661080"/>
                <a:tab algn="l" pos="8326440"/>
                <a:tab algn="l" pos="99918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36200" y="11582280"/>
            <a:ext cx="535788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1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1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888320" y="11582280"/>
            <a:ext cx="803592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6818120" y="11582280"/>
            <a:ext cx="535752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1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445D2C-EA49-4385-821A-651FB2AF8ABA}" type="slidenum">
              <a:rPr b="0" lang="fr-FR" sz="2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age 4" descr=""/>
          <p:cNvPicPr/>
          <p:nvPr/>
        </p:nvPicPr>
        <p:blipFill>
          <a:blip r:embed="rId1"/>
          <a:stretch/>
        </p:blipFill>
        <p:spPr>
          <a:xfrm>
            <a:off x="0" y="0"/>
            <a:ext cx="23812560" cy="12496680"/>
          </a:xfrm>
          <a:prstGeom prst="rect">
            <a:avLst/>
          </a:prstGeom>
          <a:ln w="0">
            <a:noFill/>
          </a:ln>
        </p:spPr>
      </p:pic>
      <p:sp>
        <p:nvSpPr>
          <p:cNvPr id="49" name="ZoneTexte 11"/>
          <p:cNvSpPr/>
          <p:nvPr/>
        </p:nvSpPr>
        <p:spPr>
          <a:xfrm>
            <a:off x="15754320" y="6919920"/>
            <a:ext cx="5429160" cy="23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Nunito Sans"/>
              </a:rPr>
              <a:t>DRAG &amp; DROP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Nunito Sans"/>
              </a:rPr>
              <a:t>YOUR FIRM’S LOGO HERE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Nunito Sans"/>
              </a:rPr>
              <a:t>(DELETE THIS TEXT)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2-08T09:38:03Z</dcterms:created>
  <dc:creator>Gonçalo DUARTE</dc:creator>
  <dc:description/>
  <dc:language>en-US</dc:language>
  <cp:lastModifiedBy>Gonçalo DUARTE</cp:lastModifiedBy>
  <dcterms:modified xsi:type="dcterms:W3CDTF">2022-12-08T10:04:35Z</dcterms:modified>
  <cp:revision>1</cp:revision>
  <dc:subject/>
  <dc:title>Présentation PowerPoint</dc:title>
</cp:coreProperties>
</file>